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278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3C16-8659-4E7E-9868-F9D4402AB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D7E0-2E70-4B58-83AC-6EFFA3BA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E0D1-B382-4AF9-87FD-2E108D3BD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BCF8-5E09-46D4-9CF0-0B7F6E302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80C8-A0C3-4531-B1CF-EDDB83EC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86C4-5B72-4C71-BEDE-B44A66A3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F434-D1BA-48D4-A0E3-18AE090B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D5A9-8F61-4AE1-A8E0-99AA8FC5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2321-B93F-497C-9EE8-A19E368D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F378-04C2-4F11-B7DF-0E373F0E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A31F-4AE3-4241-8633-0653916C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FE5B-B264-49FD-9426-EB72FEFC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313974E-058E-4102-B2FD-BDD2B3633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80880" y="2590560"/>
            <a:ext cx="5943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requency Co-ordination  -for what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he Agre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requency Co-ordination -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requency Co-ordination -Disadvantag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he Proced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dministrative Classification of Frequ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eferential Frequency Agreements  -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eferential Frequency Agreements  -Dis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adio Inter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gional Offic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urther Ques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92000" y="1828800"/>
            <a:ext cx="792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ontent    </a:t>
            </a:r>
            <a:r>
              <a:rPr b="1" lang="en-GB" sz="5400" spc="-1" strike="noStrike" baseline="-8000">
                <a:solidFill>
                  <a:srgbClr val="fc0128"/>
                </a:solidFill>
                <a:latin typeface="Monotype Sorts"/>
                <a:ea typeface="Monotype Sorts"/>
              </a:rPr>
              <a:t></a:t>
            </a:r>
            <a:r>
              <a:rPr b="1" lang="en-GB" sz="2000" spc="-1" strike="noStrike" baseline="-6000">
                <a:solidFill>
                  <a:srgbClr val="fc0128"/>
                </a:solidFill>
                <a:latin typeface="Times New Roman"/>
              </a:rPr>
              <a:t> </a:t>
            </a:r>
            <a:r>
              <a:rPr b="0" lang="en-GB" sz="2000" spc="-1" strike="noStrike" baseline="24000">
                <a:solidFill>
                  <a:srgbClr val="618ffd"/>
                </a:solidFill>
                <a:latin typeface="Times New Roman"/>
              </a:rPr>
              <a:t>click on left mouse button and go through this Introduction by using right or left arrow on your keyboard</a:t>
            </a:r>
            <a:r>
              <a:rPr b="1" lang="en-GB" sz="2000" spc="-1" strike="noStrike" baseline="24000">
                <a:solidFill>
                  <a:srgbClr val="fc0128"/>
                </a:solidFill>
                <a:latin typeface="Times New Roman"/>
              </a:rPr>
              <a:t>   </a:t>
            </a: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010280" y="380880"/>
            <a:ext cx="190512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4080" y="380880"/>
            <a:ext cx="582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Introduction on Internation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Radio Frequency Co-ordinatio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Arial"/>
              </a:rPr>
              <a:t>The Procedure (3)</a:t>
            </a:r>
            <a:r>
              <a:rPr b="0" lang="de-DE" sz="3200" spc="-1" strike="noStrike">
                <a:solidFill>
                  <a:srgbClr val="618ff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ministrations draw up and exchange lists of  co-ordinated assignments with technical characteristics, administrative reference data,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m: basis for co-ordinators’ planning and calculations, validation of assessment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560" y="1066680"/>
            <a:ext cx="5257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Arial"/>
              </a:rPr>
              <a:t>Administrative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Arial"/>
              </a:rPr>
              <a:t>Frequency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 Classification</a:t>
            </a:r>
            <a:r>
              <a:rPr b="0" lang="en-GB" sz="3200" spc="-1" strike="noStrike">
                <a:solidFill>
                  <a:srgbClr val="618ffd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26665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quencies requiring co-ord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ferential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quencies for planned radio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quencies used on the basis of geographical network plans (same parameters required, e.g. BEL 9Y = 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Arial"/>
              </a:rPr>
              <a:t>Preferential Frequency Agreements</a:t>
            </a:r>
            <a:r>
              <a:rPr b="0" lang="de-DE" sz="32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618ffd"/>
                </a:solidFill>
                <a:latin typeface="Arial"/>
              </a:rPr>
              <a:t>Advantages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259056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exible planning of preferential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nds, re-planning possible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y important in particular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public mobile radio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-term security for preferential frequencies, even if networks no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anned or set up until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375240" y="1566720"/>
          <a:ext cx="2540160" cy="20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5240" y="1566720"/>
                    <a:ext cx="254016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Arial"/>
              </a:rPr>
              <a:t>Preferential Frequency Agreements</a:t>
            </a:r>
            <a:br>
              <a:rPr sz="3200"/>
            </a:br>
            <a:r>
              <a:rPr b="1" lang="de-DE" sz="32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618ffd"/>
                </a:solidFill>
                <a:latin typeface="Arial"/>
              </a:rPr>
              <a:t>Advantages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ommodation of totally different transmission techniques (narrowband and broadband) on country’s own preferential frequencies; important if, for example, civil and military services use same ban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e.g. C network in D, military services in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rter turnaround tim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time means mon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462720" y="4981680"/>
          <a:ext cx="2529000" cy="13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2720" y="4981680"/>
                    <a:ext cx="252900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Arial"/>
              </a:rPr>
              <a:t>Preferential Frequency Agreements</a:t>
            </a:r>
            <a:r>
              <a:rPr b="0" lang="de-DE" sz="3200" spc="-1" strike="noStrike">
                <a:solidFill>
                  <a:srgbClr val="618ffd"/>
                </a:solidFill>
                <a:latin typeface="Arial"/>
              </a:rPr>
              <a:t> </a:t>
            </a:r>
            <a:br>
              <a:rPr sz="3200"/>
            </a:br>
            <a:r>
              <a:rPr b="1" lang="de-DE" sz="2000" spc="-1" strike="noStrike">
                <a:solidFill>
                  <a:srgbClr val="618ffd"/>
                </a:solidFill>
                <a:latin typeface="Arial"/>
              </a:rPr>
              <a:t>Disadvantages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7432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er countries have same amount of spectrum as larger neighbouring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trum allocation: 2 countries = 50%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countries = 33.3%, 4 countries  = 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countries’ preferential frequencies cannot normally be used in the defined frontier 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Arial"/>
              </a:rPr>
              <a:t>Preferential Frequency Agreements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618ffd"/>
                </a:solidFill>
                <a:latin typeface="Arial"/>
              </a:rPr>
              <a:t>Disadvantages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2590920"/>
            <a:ext cx="84582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frequency planning for both non-public and public mobile radio must be in line with each country’s preferential frequency areas in the frontier 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ferential frequencies are luxury goods and in great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gnment of non-preferential frequencies is seen as discriminatory because of the require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e.g. operational) restr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65200" y="900000"/>
          <a:ext cx="103500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900000"/>
                    <a:ext cx="103500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7599240" y="906480"/>
          <a:ext cx="1087560" cy="112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9240" y="906480"/>
                    <a:ext cx="10875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Arial"/>
              </a:rPr>
              <a:t>Radio Interference</a:t>
            </a:r>
            <a:r>
              <a:rPr b="0" lang="de-DE" sz="3200" spc="-1" strike="noStrike">
                <a:solidFill>
                  <a:srgbClr val="618ffd"/>
                </a:solidFill>
                <a:latin typeface="Arial"/>
              </a:rPr>
              <a:t>  </a:t>
            </a:r>
            <a:br>
              <a:rPr sz="3200"/>
            </a:br>
            <a:r>
              <a:rPr b="1" lang="de-DE" sz="2000" spc="-1" strike="noStrike">
                <a:solidFill>
                  <a:srgbClr val="618ffd"/>
                </a:solidFill>
                <a:latin typeface="Arial"/>
              </a:rPr>
              <a:t>Key determining factors (1)  </a:t>
            </a:r>
            <a:br>
              <a:rPr sz="2000"/>
            </a:br>
            <a:r>
              <a:rPr b="1" lang="de-DE" sz="2000" spc="-1" strike="noStrike">
                <a:solidFill>
                  <a:srgbClr val="618ff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99840" y="3048120"/>
            <a:ext cx="701028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al protection requi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-ordination requi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ulation of interfering field strength at 10 m on b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ulation of cross-border interference range according to prediction method, band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33520" y="1752480"/>
          <a:ext cx="1830240" cy="19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183024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Arial"/>
              </a:rPr>
              <a:t>Radio Interference</a:t>
            </a:r>
            <a:r>
              <a:rPr b="0" lang="de-DE" sz="3200" spc="-1" strike="noStrike">
                <a:solidFill>
                  <a:srgbClr val="618ffd"/>
                </a:solidFill>
                <a:latin typeface="Arial"/>
              </a:rPr>
              <a:t>  </a:t>
            </a:r>
            <a:br>
              <a:rPr sz="3200"/>
            </a:br>
            <a:r>
              <a:rPr b="1" lang="de-DE" sz="2000" spc="-1" strike="noStrike">
                <a:solidFill>
                  <a:srgbClr val="618ffd"/>
                </a:solidFill>
                <a:latin typeface="Arial"/>
              </a:rPr>
              <a:t>Key determining factors (2)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34286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deration of station’s technic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deration of frequency offset and bandwidth of stations aff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specific propagation curves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CCIR 370-5 (ITU-R P.370-7) (drawn statistically with effective antenna heigh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705720" y="1066680"/>
          <a:ext cx="2216160" cy="23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1066680"/>
                    <a:ext cx="2216160" cy="23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Regional Offices</a:t>
            </a:r>
            <a:r>
              <a:rPr b="0" lang="en-GB" sz="3200" spc="-1" strike="noStrike">
                <a:solidFill>
                  <a:srgbClr val="fc0128"/>
                </a:solidFill>
                <a:latin typeface="Arial"/>
              </a:rPr>
              <a:t> </a:t>
            </a:r>
            <a:br>
              <a:rPr sz="3200"/>
            </a:br>
            <a:r>
              <a:rPr b="1" lang="en-GB" sz="2000" spc="-1" strike="noStrike">
                <a:solidFill>
                  <a:srgbClr val="618ffd"/>
                </a:solidFill>
                <a:latin typeface="Arial"/>
              </a:rPr>
              <a:t>Contact Points for Frequency Co-ordination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53452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ten first point of contact for customer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iring radio frequency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regional offices in frontier zones and/or in "radio contact" with neighbouring countries, because of topographical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Inland" regional offices also affected, e.g. CB radio frontier zone re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HF band particularly critical because of possible ranges (e.g. radio amateurs) - foreigners transmit too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391520" y="1219320"/>
          <a:ext cx="1295280" cy="14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1219320"/>
                    <a:ext cx="1295280" cy="14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7451640" y="6289560"/>
            <a:ext cx="10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960" y="304920"/>
            <a:ext cx="69339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Regional Offices </a:t>
            </a:r>
            <a:br>
              <a:rPr sz="3200"/>
            </a:br>
            <a:r>
              <a:rPr b="1" lang="en-GB" sz="2000" spc="-1" strike="noStrike">
                <a:solidFill>
                  <a:srgbClr val="618ffd"/>
                </a:solidFill>
                <a:latin typeface="Arial"/>
              </a:rPr>
              <a:t>Contact Points for Frequency Co-ordination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853416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al conditions for frontier zones: participation of Sections 134 and 1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Simple" frontier zone conditions no longer feasible - more detailed investigation required in future: co-ordination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m: High degree of spectrum efficiency through adherence to VA 93 with little administrativ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-term aim: regional office access to central office computer system to enable quick yes/no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961320" y="606600"/>
          <a:ext cx="1865160" cy="16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61320" y="606600"/>
                    <a:ext cx="1865160" cy="16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Times New Roman"/>
              </a:rPr>
              <a:t>Frequency Co-ordination -for wh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70102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oiding radio 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greements for more than 30 years: RR do no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 all practical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country obliged to take account of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stations before putting own into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dures agreed in the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lateral preferential frequency agreements for frontier zones: who can operate wha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with which interference rang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e.g. Bruges 1997, Carcassonne 199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7531200" y="1704960"/>
          <a:ext cx="1535040" cy="41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31200" y="1704960"/>
                    <a:ext cx="1535040" cy="41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65530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800" spc="-1" strike="noStrike">
                <a:solidFill>
                  <a:srgbClr val="fc0128"/>
                </a:solidFill>
                <a:latin typeface="Arial"/>
              </a:rPr>
              <a:t>Further Questio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2895480"/>
            <a:ext cx="601992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304812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618ffd"/>
                </a:solidFill>
                <a:latin typeface="Times New Roman"/>
              </a:rPr>
              <a:t>Please contact your National Office*</a:t>
            </a:r>
            <a:r>
              <a:rPr b="1" lang="en-GB" sz="3200" spc="-1" strike="noStrike" baseline="30000">
                <a:solidFill>
                  <a:srgbClr val="618ffd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618ffd"/>
                </a:solidFill>
                <a:latin typeface="Times New Roman"/>
              </a:rPr>
              <a:t> for International  Frequency Co-ord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1240" y="5486400"/>
            <a:ext cx="844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Find it with a click on the button “Links” on the Homepage of this server</a:t>
            </a:r>
            <a:r>
              <a:rPr b="1" lang="en-GB" sz="3200" spc="-1" strike="noStrike">
                <a:solidFill>
                  <a:srgbClr val="618ff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553080" y="2819520"/>
            <a:ext cx="1981440" cy="1977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4495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Arial"/>
              </a:rPr>
              <a:t>The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m: Optimise spectrum usage by accurate interference field strength calc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ification of general parameters, improvement and supplementation of technical provisions, individual restr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ment of models for computer-aided interference range calc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rmonised parameters: Objectively predictable and transparent 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ximum turnaround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id basis for bilateral and multilateral agre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750600" cy="533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172200" y="0"/>
            <a:ext cx="2666880" cy="1598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867280" y="304920"/>
            <a:ext cx="1233720" cy="1447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Frequency Co-ordination, R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28600" y="2438280"/>
          <a:ext cx="8734320" cy="39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8734320" cy="39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Arial"/>
              </a:rPr>
              <a:t>Frequency Co-ordination</a:t>
            </a:r>
            <a:br>
              <a:rPr sz="3200"/>
            </a:br>
            <a:r>
              <a:rPr b="0" lang="de-DE" sz="3200" spc="-1" strike="noStrike">
                <a:solidFill>
                  <a:srgbClr val="618ffd"/>
                </a:solidFill>
                <a:latin typeface="Arial"/>
              </a:rPr>
              <a:t>- Advantages</a:t>
            </a:r>
            <a:r>
              <a:rPr b="1" lang="de-DE" sz="3200" spc="-1" strike="noStrike">
                <a:solidFill>
                  <a:srgbClr val="fc012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m: Optimise spectrum u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ministrations obliged to co-ordinate frequencies before assigning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ministrations obliged to ensure harmonised application of technical prov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ick assignment of preferential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parent decisions through agree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ssment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ick assessment of interference through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Arial"/>
              </a:rPr>
              <a:t>Frequency Co-ordination</a:t>
            </a:r>
            <a:br>
              <a:rPr sz="3200"/>
            </a:br>
            <a:r>
              <a:rPr b="0" lang="de-DE" sz="3200" spc="-1" strike="noStrike">
                <a:solidFill>
                  <a:srgbClr val="618ffd"/>
                </a:solidFill>
                <a:latin typeface="Arial"/>
              </a:rPr>
              <a:t>- Disadvantages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e in administrative work and costs (complex procedures, longer turnaround times, topographical data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ailed input data required from operators (geographical data, antenna paramet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x operational conditions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gnments subject t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verging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943600" y="4038480"/>
          <a:ext cx="2743200" cy="248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4038480"/>
                    <a:ext cx="2743200" cy="24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352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stomers affected by chang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usage rights: Various con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its also to preferential frequencies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its may vary from case to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other countries’ preferential frequencies currently not allowe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restrictions in frequency assign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 work in applica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1066320" y="533160"/>
            <a:ext cx="67820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Arial"/>
              </a:rPr>
              <a:t>Frequency Co-ordination</a:t>
            </a:r>
            <a:br>
              <a:rPr sz="3200"/>
            </a:br>
            <a:r>
              <a:rPr b="0" lang="de-DE" sz="3200" spc="-1" strike="noStrike">
                <a:solidFill>
                  <a:srgbClr val="618ffd"/>
                </a:solidFill>
                <a:latin typeface="Arial"/>
              </a:rPr>
              <a:t>- Disadvantage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Arial"/>
              </a:rPr>
              <a:t>The Procedure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-ordination request and all technical characteristics of radio network/equipmen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t to all administrations affected t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able accurate assessment of 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ministrations affected assess possibility of interference to own stations; no possibility of interference: obliged to agree to requ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assessments produce different results, administrations can agree to operation on a trial basis; field strength calculations replaced with agreed field strength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Arial"/>
              </a:rPr>
              <a:t>The Procedur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ification that conditions for preferential frequency use exist and are met (agreement to another country’s use of own preferential frequencies can be refus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ssment of border cases: conditional agreement given (NIB/SGN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no interference permitted (NI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no protection against interference from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co-ordinated stations (SGN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no interference permitted and no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543800" y="3200400"/>
          <a:ext cx="1419120" cy="32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3200400"/>
                    <a:ext cx="1419120" cy="32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510080" y="3367080"/>
            <a:ext cx="122400" cy="122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2T22:56:54Z</dcterms:created>
  <dc:creator>Miez &amp; Katz</dc:creator>
  <dc:description/>
  <dc:language>en-US</dc:language>
  <cp:lastModifiedBy>BMWi</cp:lastModifiedBy>
  <cp:lastPrinted>2001-12-05T16:40:26Z</cp:lastPrinted>
  <dcterms:modified xsi:type="dcterms:W3CDTF">2001-12-06T09:30:27Z</dcterms:modified>
  <cp:revision>61</cp:revision>
  <dc:subject/>
  <dc:title>Berührungspunkte  ASt - Koordinierung</dc:title>
</cp:coreProperties>
</file>