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EAE-9F94-4CFD-9E46-F15DEEA4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C6D-ACEC-471A-A75B-8F589E45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18C-EE7D-4A4C-9C43-CFEE876D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59D-5DE0-4159-B4CE-CA57CF45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2F8-16B1-4AB7-8AE0-BC8DE02B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F62-C8AB-48DE-96C2-FF22D154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151-87D8-4ADA-A0E4-66DC5C1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BF8-8728-4D65-B280-4D28B4AD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545-D9C3-4EEB-948F-6DFCCBDB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230-D647-44FC-9ED9-2B4002FC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A85-5323-4A4C-88E8-549EE605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C7B-D3C1-4D81-83E0-60872E30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B9C013-4354-4385-AE7C-B62F1F08A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2590560"/>
            <a:ext cx="5943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 Co-ordination  -for what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 Co-ordination -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 Co-ordination -Disadvant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dministrative Classification of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ferential Frequency Agreements  -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eferential Frequency Agreements  -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dio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gional Offi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ur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000" y="182880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    </a:t>
            </a:r>
            <a:r>
              <a:rPr b="1" lang="en-GB" sz="5400" spc="-1" strike="noStrike" baseline="-8000">
                <a:solidFill>
                  <a:srgbClr val="fc0128"/>
                </a:solidFill>
                <a:latin typeface="Monotype Sorts"/>
                <a:ea typeface="Monotype Sorts"/>
              </a:rPr>
              <a:t></a:t>
            </a:r>
            <a:r>
              <a:rPr b="1" lang="en-GB" sz="2000" spc="-1" strike="noStrike" baseline="-6000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GB" sz="2000" spc="-1" strike="noStrike" baseline="24000">
                <a:solidFill>
                  <a:srgbClr val="618ffd"/>
                </a:solidFill>
                <a:latin typeface="Times New Roman"/>
              </a:rPr>
              <a:t>click on left mouse button and go through this Introduction by using right or left arrow on your keyboard</a:t>
            </a:r>
            <a:r>
              <a:rPr b="1" lang="en-GB" sz="2000" spc="-1" strike="noStrike" baseline="24000">
                <a:solidFill>
                  <a:srgbClr val="fc0128"/>
                </a:solidFill>
                <a:latin typeface="Times New Roman"/>
              </a:rPr>
              <a:t>   </a:t>
            </a: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90512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4080" y="380880"/>
            <a:ext cx="582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ntroduction on Internat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Radio Frequency Co-ordinat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The Procedure (3)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draw up and exchange lists of  co-ordinated assignments with technical characteristics, administrative reference data,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: basis for co-ordinators’ planning and calculations, validation of assessm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Administrative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Frequency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 Classification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ies requiring 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erentia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ies for planned radio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ies used on the basis of geographical network plans (same parameters required, e.g. BEL 9Y = 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Preferential Frequency Agreements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Advantag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xible planning of preferentia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nds, re-planning possible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important in particula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ublic mobile radio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-term security for preferential frequencies, even if networks no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ned or set up until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375240" y="1566720"/>
          <a:ext cx="254016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5240" y="1566720"/>
                    <a:ext cx="254016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Preferential Frequency Agreements</a:t>
            </a:r>
            <a:br>
              <a:rPr sz="3200"/>
            </a:br>
            <a:r>
              <a:rPr b="1" lang="de-DE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Advantag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mmodation of totally different transmission techniques (narrowband and broadband) on country’s own preferential frequencies; important if, for example, civil and military services use same ban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C network in D, military services in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er turnaround ti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ime means mon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462720" y="4981680"/>
          <a:ext cx="252900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720" y="4981680"/>
                    <a:ext cx="25290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Preferential Frequency Agreements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</a:t>
            </a:r>
            <a:br>
              <a:rPr sz="3200"/>
            </a:b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Disadvantages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er countries have same amount of spectrum as larger neighbour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trum allocation: 2 countries = 50%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countries = 33.3%, 4 countries  =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countries’ preferential frequencies cannot normally be used in the defined frontier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Preferential Frequency Agreements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Disadvantages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frequency planning for both non-public and public mobile radio must be in line with each country’s preferential frequency areas in the frontier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erential frequencies are luxury goods and in great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ment of non-preferential frequencies is seen as discriminatory because of the requir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operational)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65200" y="900000"/>
          <a:ext cx="103500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900000"/>
                    <a:ext cx="10350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599240" y="906480"/>
          <a:ext cx="108756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9240" y="906480"/>
                    <a:ext cx="10875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Radio Interference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 </a:t>
            </a:r>
            <a:br>
              <a:rPr sz="3200"/>
            </a:b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Key determining factors (1)  </a:t>
            </a:r>
            <a:br>
              <a:rPr sz="2000"/>
            </a:b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9840" y="3048120"/>
            <a:ext cx="7010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 protection requi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rdination requi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ion of interfering field strength at 10 m on 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ion of cross-border interference range according to prediction method, band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1752480"/>
          <a:ext cx="18302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18302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Radio Interference</a:t>
            </a: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  </a:t>
            </a:r>
            <a:br>
              <a:rPr sz="3200"/>
            </a:br>
            <a:r>
              <a:rPr b="1" lang="de-DE" sz="2000" spc="-1" strike="noStrike">
                <a:solidFill>
                  <a:srgbClr val="618ffd"/>
                </a:solidFill>
                <a:latin typeface="Arial"/>
              </a:rPr>
              <a:t>Key determining factors (2)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3428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ation of station’s techn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ation of frequency offset and bandwidth of stations aff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specific propagation curv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CCIR 370-5 (ITU-R P.370-7) (drawn statistically with effective antenna he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705720" y="1066680"/>
          <a:ext cx="2216160" cy="23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066680"/>
                    <a:ext cx="221616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Regional Offices</a:t>
            </a:r>
            <a:r>
              <a:rPr b="0" lang="en-GB" sz="3200" spc="-1" strike="noStrike">
                <a:solidFill>
                  <a:srgbClr val="fc0128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Contact Points for Frequency Co-ordination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ten first point of contact for custom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ing radio frequency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regional offices in frontier zones and/or in "radio contact" with neighbouring countries, because of topograph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Inland" regional offices also affected, e.g. CB radio frontier zone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HF band particularly critical because of possible ranges (e.g. radio amateurs) - foreigners transmit to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391520" y="1219320"/>
          <a:ext cx="129528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1219320"/>
                    <a:ext cx="129528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451640" y="62895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Regional Offices </a:t>
            </a:r>
            <a:br>
              <a:rPr sz="3200"/>
            </a:br>
            <a:r>
              <a:rPr b="1" lang="en-GB" sz="2000" spc="-1" strike="noStrike">
                <a:solidFill>
                  <a:srgbClr val="618ffd"/>
                </a:solidFill>
                <a:latin typeface="Arial"/>
              </a:rPr>
              <a:t>Contact Points for Frequency Co-ordination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conditions for frontier zones: participation of Sections 134 and 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Simple" frontier zone conditions no longer feasible - more detailed investigation required in future: co-ordination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: High degree of spectrum efficiency through adherence to VA 93 with little administrativ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-term aim: regional office access to central office computer system to enable quick yes/no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961320" y="606600"/>
          <a:ext cx="1865160" cy="16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1320" y="606600"/>
                    <a:ext cx="186516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Times New Roman"/>
              </a:rPr>
              <a:t>Frequency Co-ordination -for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oiding radio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eements for more than 30 years: RR do no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 all pract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country obliged to take accoun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stations before putting own into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dures agreed in th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lateral preferential frequency agreements for frontier zones: who can operate wha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with which interference rang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Bruges 1997, Carcassonne 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531200" y="1704960"/>
          <a:ext cx="153504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1704960"/>
                    <a:ext cx="153504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800" spc="-1" strike="noStrike">
                <a:solidFill>
                  <a:srgbClr val="fc0128"/>
                </a:solidFill>
                <a:latin typeface="Arial"/>
              </a:rPr>
              <a:t>Further 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895480"/>
            <a:ext cx="60199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304812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618ffd"/>
                </a:solidFill>
                <a:latin typeface="Times New Roman"/>
              </a:rPr>
              <a:t>Please contact your National Office*</a:t>
            </a:r>
            <a:r>
              <a:rPr b="1" lang="en-GB" sz="3200" spc="-1" strike="noStrike" baseline="30000">
                <a:solidFill>
                  <a:srgbClr val="618ffd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618ffd"/>
                </a:solidFill>
                <a:latin typeface="Times New Roman"/>
              </a:rPr>
              <a:t> for International  Frequency Co-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240" y="5486400"/>
            <a:ext cx="84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d it with a click on the button “Links” on the Homepage of this server</a:t>
            </a:r>
            <a:r>
              <a:rPr b="1" lang="en-GB" sz="32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53080" y="2819520"/>
            <a:ext cx="1981440" cy="197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Th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: Optimise spectrum usage by accurate interference field strength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ication of general parameters, improvement and supplementation of technical provisions, individual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ment of models for computer-aided interference range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monised parameters: Objectively predictable and transparent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turnaroun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id basis for bilateral and multilateral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750600" cy="533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666880" cy="159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67280" y="304920"/>
            <a:ext cx="1233720" cy="1447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Frequency Co-ordination, R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2438280"/>
          <a:ext cx="8734320" cy="39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73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Frequency Co-ordination</a:t>
            </a:r>
            <a:br>
              <a:rPr sz="3200"/>
            </a:b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- Advantages</a:t>
            </a: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: Optimise spectrum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obliged to co-ordinate frequencies before assigning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obliged to ensure harmonised application of technical pro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ck assignment of preferentia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arent decisions through agre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ck assessment of interference through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Frequency Co-ordination</a:t>
            </a:r>
            <a:br>
              <a:rPr sz="3200"/>
            </a:b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- Disadvantage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in administrative work and costs (complex procedures, longer turnaround times, topographical data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ed input data required from operators (geographical data, antenna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 operational condition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ments subject t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erg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943600" y="4038480"/>
          <a:ext cx="2743200" cy="24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038480"/>
                    <a:ext cx="274320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s affected by chang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usage rights: Various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also to preferential frequencies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s may vary from case to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other countries’ preferential frequencies currently not allow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restrictions in frequency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work in applica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066320" y="533160"/>
            <a:ext cx="67820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Frequency Co-ordination</a:t>
            </a:r>
            <a:br>
              <a:rPr sz="3200"/>
            </a:br>
            <a:r>
              <a:rPr b="0" lang="de-DE" sz="3200" spc="-1" strike="noStrike">
                <a:solidFill>
                  <a:srgbClr val="618ffd"/>
                </a:solidFill>
                <a:latin typeface="Arial"/>
              </a:rPr>
              <a:t>- Disadvantage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The Procedur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-ordination request and all technical characteristics of radio network/equipmen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t to all administrations affected t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able accurate assessment of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affected assess possibility of interference to own stations; no possibility of interference: obliged to agree to re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ssessments produce different results, administrations can agree to operation on a trial basis; field strength calculations replaced with agreed field strength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Arial"/>
              </a:rPr>
              <a:t>The Procedur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ification that conditions for preferential frequency use exist and are met (agreement to another country’s use of own preferential frequencies can be refu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of border cases: conditional agreement given (NIB/SGN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o interference permitted (N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o protection against interference fro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co-ordinated stations (SGN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o interference permitted and no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543800" y="3200400"/>
          <a:ext cx="141912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200400"/>
                    <a:ext cx="141912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10080" y="3367080"/>
            <a:ext cx="122400" cy="12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22:56:54Z</dcterms:created>
  <dc:creator>Miez &amp; Katz</dc:creator>
  <dc:description/>
  <dc:language>en-US</dc:language>
  <cp:lastModifiedBy>BMWi</cp:lastModifiedBy>
  <cp:lastPrinted>2001-12-05T16:40:26Z</cp:lastPrinted>
  <dcterms:modified xsi:type="dcterms:W3CDTF">2001-12-06T09:30:27Z</dcterms:modified>
  <cp:revision>61</cp:revision>
  <dc:subject/>
  <dc:title>Berührungspunkte  ASt - Koordinierung</dc:title>
</cp:coreProperties>
</file>